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24382413" cy="13716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64880"/>
            <a:ext cx="23329800" cy="1409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574640"/>
            <a:ext cx="23329800" cy="579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7916400"/>
            <a:ext cx="23329800" cy="579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64880"/>
            <a:ext cx="23329800" cy="1409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74640"/>
            <a:ext cx="11384640" cy="579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411000" y="1574640"/>
            <a:ext cx="11384640" cy="579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7916400"/>
            <a:ext cx="11384640" cy="579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12411000" y="7916400"/>
            <a:ext cx="11384640" cy="579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64880"/>
            <a:ext cx="23329800" cy="1409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74640"/>
            <a:ext cx="7512120" cy="579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8344800" y="1574640"/>
            <a:ext cx="7512120" cy="579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6233120" y="1574640"/>
            <a:ext cx="7512120" cy="579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7916400"/>
            <a:ext cx="7512120" cy="579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8344800" y="7916400"/>
            <a:ext cx="7512120" cy="579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16233120" y="7916400"/>
            <a:ext cx="7512120" cy="579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64880"/>
            <a:ext cx="23329800" cy="1409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6840" y="1574640"/>
            <a:ext cx="23329800" cy="121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64880"/>
            <a:ext cx="23329800" cy="1409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6840" y="1574640"/>
            <a:ext cx="23329800" cy="12141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164880"/>
            <a:ext cx="23329800" cy="1409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574640"/>
            <a:ext cx="11384640" cy="12141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12411000" y="1574640"/>
            <a:ext cx="11384640" cy="12141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64880"/>
            <a:ext cx="23329800" cy="1409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6840" y="164880"/>
            <a:ext cx="23329800" cy="65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64880"/>
            <a:ext cx="23329800" cy="1409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574640"/>
            <a:ext cx="11384640" cy="579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2411000" y="1574640"/>
            <a:ext cx="11384640" cy="12141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6840" y="7916400"/>
            <a:ext cx="11384640" cy="579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64880"/>
            <a:ext cx="23329800" cy="1409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574640"/>
            <a:ext cx="23329800" cy="121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64880"/>
            <a:ext cx="23329800" cy="1409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574640"/>
            <a:ext cx="11384640" cy="12141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2411000" y="1574640"/>
            <a:ext cx="11384640" cy="579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2411000" y="7916400"/>
            <a:ext cx="11384640" cy="579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64880"/>
            <a:ext cx="23329800" cy="1409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74640"/>
            <a:ext cx="11384640" cy="579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12411000" y="1574640"/>
            <a:ext cx="11384640" cy="579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7916400"/>
            <a:ext cx="23329800" cy="579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164880"/>
            <a:ext cx="23329800" cy="1409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74640"/>
            <a:ext cx="23329800" cy="579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6840" y="7916400"/>
            <a:ext cx="23329800" cy="579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64880"/>
            <a:ext cx="23329800" cy="1409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574640"/>
            <a:ext cx="11384640" cy="579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2411000" y="1574640"/>
            <a:ext cx="11384640" cy="579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7916400"/>
            <a:ext cx="11384640" cy="579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2411000" y="7916400"/>
            <a:ext cx="11384640" cy="579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64880"/>
            <a:ext cx="23329800" cy="1409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574640"/>
            <a:ext cx="7512120" cy="579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8344800" y="1574640"/>
            <a:ext cx="7512120" cy="579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6233120" y="1574640"/>
            <a:ext cx="7512120" cy="579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6840" y="7916400"/>
            <a:ext cx="7512120" cy="579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8344800" y="7916400"/>
            <a:ext cx="7512120" cy="579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16233120" y="7916400"/>
            <a:ext cx="7512120" cy="579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64880"/>
            <a:ext cx="23329800" cy="1409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574640"/>
            <a:ext cx="23329800" cy="12141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64880"/>
            <a:ext cx="23329800" cy="1409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574640"/>
            <a:ext cx="11384640" cy="12141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12411000" y="1574640"/>
            <a:ext cx="11384640" cy="12141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64880"/>
            <a:ext cx="23329800" cy="1409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64880"/>
            <a:ext cx="23329800" cy="65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64880"/>
            <a:ext cx="23329800" cy="1409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74640"/>
            <a:ext cx="11384640" cy="579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12411000" y="1574640"/>
            <a:ext cx="11384640" cy="12141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7916400"/>
            <a:ext cx="11384640" cy="579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64880"/>
            <a:ext cx="23329800" cy="1409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574640"/>
            <a:ext cx="11384640" cy="12141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12411000" y="1574640"/>
            <a:ext cx="11384640" cy="579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411000" y="7916400"/>
            <a:ext cx="11384640" cy="579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64880"/>
            <a:ext cx="23329800" cy="1409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574640"/>
            <a:ext cx="11384640" cy="579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12411000" y="1574640"/>
            <a:ext cx="11384640" cy="579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7916400"/>
            <a:ext cx="23329800" cy="579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18080" y="583920"/>
            <a:ext cx="13525560" cy="7543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18080" y="8368920"/>
            <a:ext cx="13525560" cy="501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6000"/>
          </a:bodyPr>
          <a:p>
            <a:pPr marL="329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32904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329040" indent="-3290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329040" indent="-32904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29040" indent="-32904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29040" indent="-32904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29040" indent="-32904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64880"/>
            <a:ext cx="23329800" cy="1409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6840" y="1574640"/>
            <a:ext cx="23329800" cy="12141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57200" indent="-457200">
              <a:spcBef>
                <a:spcPts val="1400"/>
              </a:spcBef>
              <a:buClr>
                <a:srgbClr val="b40e2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457200">
              <a:spcBef>
                <a:spcPts val="1400"/>
              </a:spcBef>
              <a:buClr>
                <a:srgbClr val="b40e25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270080" indent="-457200">
              <a:spcBef>
                <a:spcPts val="1400"/>
              </a:spcBef>
              <a:buClr>
                <a:srgbClr val="b40e25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457200">
              <a:spcBef>
                <a:spcPts val="1400"/>
              </a:spcBef>
              <a:buClr>
                <a:srgbClr val="b40e25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184480" indent="-457200">
              <a:spcBef>
                <a:spcPts val="1400"/>
              </a:spcBef>
              <a:buClr>
                <a:srgbClr val="b40e25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5" marL="2184480" indent="-457200">
              <a:spcBef>
                <a:spcPts val="1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6" marL="2184480" indent="-457200">
              <a:spcBef>
                <a:spcPts val="1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locaweb.com/" TargetMode="External"/><Relationship Id="rId2" Type="http://schemas.openxmlformats.org/officeDocument/2006/relationships/hyperlink" Target="http://7co.cc/" TargetMode="External"/><Relationship Id="rId3" Type="http://schemas.openxmlformats.org/officeDocument/2006/relationships/hyperlink" Target="http://zenmachine.wordpress.com/" TargetMode="External"/><Relationship Id="rId4" Type="http://schemas.openxmlformats.org/officeDocument/2006/relationships/hyperlink" Target="http://github.com/gleicon" TargetMode="External"/><Relationship Id="rId5" Type="http://schemas.openxmlformats.org/officeDocument/2006/relationships/hyperlink" Target="http://restmq.com/" TargetMode="External"/><Relationship Id="rId6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18080" y="583920"/>
            <a:ext cx="13525560" cy="7543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0" spc="-1" strike="noStrike">
                <a:solidFill>
                  <a:srgbClr val="000000"/>
                </a:solidFill>
                <a:latin typeface="Arial"/>
              </a:rPr>
              <a:t>Architectural </a:t>
            </a:r>
            <a:br>
              <a:rPr sz="10000"/>
            </a:br>
            <a:r>
              <a:rPr b="1" lang="pt-BR" sz="10000" spc="-1" strike="noStrike">
                <a:solidFill>
                  <a:srgbClr val="000000"/>
                </a:solidFill>
                <a:latin typeface="Arial"/>
              </a:rPr>
              <a:t>Anti Patterns</a:t>
            </a:r>
            <a:endParaRPr b="1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18080" y="8368920"/>
            <a:ext cx="13525560" cy="501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000000"/>
                </a:solidFill>
                <a:latin typeface="Arial"/>
              </a:rPr>
              <a:t>Notes on Data Distribution and Handling Failur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000000"/>
                </a:solidFill>
                <a:latin typeface="Arial"/>
              </a:rPr>
              <a:t>Gleicon Mora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164880"/>
            <a:ext cx="23329800" cy="1409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300" spc="-1" strike="noStrike">
                <a:solidFill>
                  <a:srgbClr val="000000"/>
                </a:solidFill>
                <a:latin typeface="Arial"/>
              </a:rPr>
              <a:t>Quick Question</a:t>
            </a: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574640"/>
            <a:ext cx="23329800" cy="12141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main MySQL tuning technique used in panic situations ?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: To install PostgreSQ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64880"/>
            <a:ext cx="23329800" cy="1409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300" spc="-1" strike="noStrike">
                <a:solidFill>
                  <a:srgbClr val="000000"/>
                </a:solidFill>
                <a:latin typeface="Arial"/>
              </a:rPr>
              <a:t>RDBMS Anti Patterns</a:t>
            </a: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574640"/>
            <a:ext cx="23329800" cy="12141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News Flash: Not everything fits on a RDBM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Great Architectural Staple (tm), used a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ssage Que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b Schedul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ributed Coun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ributed Lo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cument Stor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e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ger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flow Orchest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3600" y="5850000"/>
            <a:ext cx="23329800" cy="1409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300" spc="-1" strike="noStrike">
                <a:solidFill>
                  <a:srgbClr val="000000"/>
                </a:solidFill>
                <a:latin typeface="Arial"/>
              </a:rPr>
              <a:t>Frame by Frame</a:t>
            </a:r>
            <a:br>
              <a:rPr sz="6300"/>
            </a:b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ML/DDL Anti Patterns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64880"/>
            <a:ext cx="23329800" cy="1409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300" spc="-1" strike="noStrike">
                <a:solidFill>
                  <a:srgbClr val="000000"/>
                </a:solidFill>
                <a:latin typeface="Arial"/>
              </a:rPr>
              <a:t>The Eternal Tree</a:t>
            </a: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574640"/>
            <a:ext cx="23329800" cy="12141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escrip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ries around a single table, self referencing an id or ke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st threaded discussion examples uses something like a table which contains all threads and answers, relating to each other by an i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 any given point the application code will contain its own tree-traversal algorithm to manage thi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so most cases have a limit in depth for performance reasons. Any kind of sharding requires that all comments be at the same instanc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64880"/>
            <a:ext cx="23329800" cy="1409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300" spc="-1" strike="noStrike">
                <a:solidFill>
                  <a:srgbClr val="000000"/>
                </a:solidFill>
                <a:latin typeface="Arial"/>
              </a:rPr>
              <a:t>The Eternal Tree</a:t>
            </a: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74640"/>
            <a:ext cx="23329800" cy="12141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ame data stored as a docu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{ thread_id:1, title: 'the meeting', author: 'gleicon', replies:[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     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       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'author': elvis, text:'shout', replies:[{...}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     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  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ame sharding and indexing issues still appl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527040" y="2825640"/>
          <a:ext cx="16256160" cy="2103480"/>
        </p:xfrm>
        <a:graphic>
          <a:graphicData uri="http://schemas.openxmlformats.org/drawingml/2006/table">
            <a:tbl>
              <a:tblPr/>
              <a:tblGrid>
                <a:gridCol w="4064040"/>
                <a:gridCol w="4064040"/>
                <a:gridCol w="4064040"/>
                <a:gridCol w="4064040"/>
              </a:tblGrid>
              <a:tr h="701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Gill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ent-I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Gill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ho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Gill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Gill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Gill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Gill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eico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Gill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llo Worl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Gill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701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Gill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Gill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vi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Gill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pt-BR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t!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Gill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164880"/>
            <a:ext cx="23329800" cy="1409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300" spc="-1" strike="noStrike">
                <a:solidFill>
                  <a:srgbClr val="000000"/>
                </a:solidFill>
                <a:latin typeface="Arial"/>
              </a:rPr>
              <a:t>Dynamic Table Creation</a:t>
            </a: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574640"/>
            <a:ext cx="23329800" cy="12141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avoid huge tables, one must come with a "dynamic schema".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Document storage/management company, which is adding new facilities over the country. For each storage facility, a new table is created, structured like thi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query the total capacity of a set of facilities over a given state, one query to an index table would have to be issued, and then one query for each facility on its own tabl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3960" y="7074000"/>
          <a:ext cx="16256160" cy="2103480"/>
        </p:xfrm>
        <a:graphic>
          <a:graphicData uri="http://schemas.openxmlformats.org/drawingml/2006/table">
            <a:tbl>
              <a:tblPr/>
              <a:tblGrid>
                <a:gridCol w="4064040"/>
                <a:gridCol w="4064040"/>
                <a:gridCol w="4064040"/>
                <a:gridCol w="4064040"/>
              </a:tblGrid>
              <a:tr h="701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1" lang="pt-BR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_i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Gill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1" lang="pt-BR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w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Gill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pt-BR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um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Gill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Gill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Gill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Gill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Gill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pt-BR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 foo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Gill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701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Gill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Gill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Gill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ou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Gill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64880"/>
            <a:ext cx="23329800" cy="1409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300" spc="-1" strike="noStrike">
                <a:solidFill>
                  <a:srgbClr val="000000"/>
                </a:solidFill>
                <a:latin typeface="Arial"/>
              </a:rPr>
              <a:t>The Alignment</a:t>
            </a: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574640"/>
            <a:ext cx="23329800" cy="12141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escri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columns are created but not used immediately. Usually they are named as a1, a2, a3, a4 and called paddin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with variable attributes or highly populated tables which broke on migrations when adding an extra column in a 150M lines database and it took 2 days to run an ALTER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ing no used columns might feel hackish as when one used padding on ANSI C structs, but probably the best alternative to variable attributes is a document based databas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ally if the attributes are local to each docu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64880"/>
            <a:ext cx="23329800" cy="1409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300" spc="-1" strike="noStrike">
                <a:solidFill>
                  <a:srgbClr val="000000"/>
                </a:solidFill>
                <a:latin typeface="Arial"/>
              </a:rPr>
              <a:t>Hierarchical Sharding</a:t>
            </a: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574640"/>
            <a:ext cx="23329800" cy="12141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escri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databases to shard data inside the same server/instanc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ail accounts management. Distinct databases inside a RDBMS ranging from A to Z, each database has tables for users starting with the proper letter. Each table has user dat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&gt; show databases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b c d e f g h i j k l m n o p q r s t u w x z 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&gt; use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&gt; show tables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..alberto alice alma ... (and a lot mor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64880"/>
            <a:ext cx="23329800" cy="1409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300" spc="-1" strike="noStrike">
                <a:solidFill>
                  <a:srgbClr val="000000"/>
                </a:solidFill>
                <a:latin typeface="Arial"/>
              </a:rPr>
              <a:t>Hierarchical Sharding</a:t>
            </a: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574640"/>
            <a:ext cx="23329800" cy="12141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re is no way to query anything in common for all users without application side processing. JOINs are not possibl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DBMS have all tools to deal with this particular case of 'different clients and their data'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etters A and M (at least for Brazilian Portuguese) will alone have more names than the re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64880"/>
            <a:ext cx="23329800" cy="1409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300" spc="-1" strike="noStrike">
                <a:solidFill>
                  <a:srgbClr val="000000"/>
                </a:solidFill>
                <a:latin typeface="Arial"/>
              </a:rPr>
              <a:t>Embedded Lists</a:t>
            </a: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574640"/>
            <a:ext cx="23329800" cy="12141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escri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 data complexity grows, one thinks that it's proper for the application to handle different data structures embedded in a single cell or row.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ags for feature administ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&gt; select group_field from that_email_sharded_database.u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"a@email1.net, b@email1.net,c@email2.net"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&gt; select flags from email_feature_admin where id =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|0|1|1|0|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164880"/>
            <a:ext cx="23329800" cy="1409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300" spc="-1" strike="noStrike">
                <a:solidFill>
                  <a:srgbClr val="000000"/>
                </a:solidFill>
                <a:latin typeface="Arial"/>
              </a:rPr>
              <a:t>$whoami</a:t>
            </a: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574640"/>
            <a:ext cx="23329800" cy="12141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0124d"/>
                </a:solidFill>
                <a:latin typeface="Arial"/>
              </a:rPr>
              <a:t>work: </a:t>
            </a:r>
            <a:r>
              <a:rPr b="0" lang="en-US" sz="4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locaweb.co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0124d"/>
                </a:solidFill>
                <a:latin typeface="Arial"/>
              </a:rPr>
              <a:t>site: </a:t>
            </a:r>
            <a:r>
              <a:rPr b="0" lang="en-US" sz="4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7co.c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0124d"/>
                </a:solidFill>
                <a:latin typeface="Arial"/>
              </a:rPr>
              <a:t>blog: </a:t>
            </a:r>
            <a:r>
              <a:rPr b="0" lang="en-US" sz="4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zenmachine.wordpress.co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0124d"/>
                </a:solidFill>
                <a:latin typeface="Arial"/>
              </a:rPr>
              <a:t>code: </a:t>
            </a:r>
            <a:r>
              <a:rPr b="0" lang="en-US" sz="4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github.com/gleic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estMQ: </a:t>
            </a:r>
            <a:r>
              <a:rPr b="0" lang="en-US" sz="4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restmq.co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0124d"/>
                </a:solidFill>
                <a:latin typeface="Arial"/>
              </a:rPr>
              <a:t>twitter: @gleic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64880"/>
            <a:ext cx="23329800" cy="1409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300" spc="-1" strike="noStrike">
                <a:solidFill>
                  <a:srgbClr val="000000"/>
                </a:solidFill>
                <a:latin typeface="Arial"/>
              </a:rPr>
              <a:t>Embedded Lists</a:t>
            </a: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574640"/>
            <a:ext cx="23329800" cy="12141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opular 'Let's use commas to separe it'. You may find distinct separators as |, -, [] and so on. Embedding CSV fields would fall on this categ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art from space optimization, a very common argument is to save spac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proper alternative is a clone of proper SETS and LISTS on K/V stores as Redis, acting as a property storage. Or even a row for each fla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3600" y="5850000"/>
            <a:ext cx="23329800" cy="1409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300" spc="-1" strike="noStrike">
                <a:solidFill>
                  <a:srgbClr val="000000"/>
                </a:solidFill>
                <a:latin typeface="Arial"/>
              </a:rPr>
              <a:t>Matte Kudasai</a:t>
            </a:r>
            <a:br>
              <a:rPr sz="6300"/>
            </a:b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rchitectural Anti Patterns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164880"/>
            <a:ext cx="23329800" cy="1409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300" spc="-1" strike="noStrike">
                <a:solidFill>
                  <a:srgbClr val="000000"/>
                </a:solidFill>
                <a:latin typeface="Arial"/>
              </a:rPr>
              <a:t>Heroes are hard to find</a:t>
            </a: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8447040" y="1889280"/>
            <a:ext cx="7489800" cy="95043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64880"/>
            <a:ext cx="23329800" cy="1409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300" spc="-1" strike="noStrike">
                <a:solidFill>
                  <a:srgbClr val="000000"/>
                </a:solidFill>
                <a:latin typeface="Arial"/>
              </a:rPr>
              <a:t>Table as Cache</a:t>
            </a: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574640"/>
            <a:ext cx="23329800" cy="12141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escri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workaround for complex queries which stores resultsets in a different table using the query - or part of it as a ke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iscuss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ex and recurrent queries that demand the result to be stored in a separated table, so they result can be retrieved quickly.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ries with many JOINs or complex data dictionaries, in late stage development or legacy patchin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so, it de-normalizes the data and demands cache maintenance as purging and invalidation.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-memory cache vs DB backed cache access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64880"/>
            <a:ext cx="23329800" cy="1409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300" spc="-1" strike="noStrike">
                <a:solidFill>
                  <a:srgbClr val="000000"/>
                </a:solidFill>
                <a:latin typeface="Arial"/>
              </a:rPr>
              <a:t>Table as Queue</a:t>
            </a: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574640"/>
            <a:ext cx="23329800" cy="12141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escri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use of a table, or more than one table, to hold messages to be processed, instead of a Message Brok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/views with rows ordered by time of creation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ands application polling and clea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ce condition when more than one client is pol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apped on stored procedures/triggers to signal new i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NUS: global procedure to generate job/message 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164880"/>
            <a:ext cx="23329800" cy="1409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300" spc="-1" strike="noStrike">
                <a:solidFill>
                  <a:srgbClr val="000000"/>
                </a:solidFill>
                <a:latin typeface="Arial"/>
              </a:rPr>
              <a:t>Table as Log File</a:t>
            </a: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574640"/>
            <a:ext cx="23329800" cy="12141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escri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s written straight to one or more tables fully or in a round-robin fashi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urrent access in the same schema than application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om time to time it needs to be purged/trunca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dered/Indexed by date, to avoid grep'ing log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ually application/transaction l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64880"/>
            <a:ext cx="23329800" cy="1409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300" spc="-1" strike="noStrike">
                <a:solidFill>
                  <a:srgbClr val="000000"/>
                </a:solidFill>
                <a:latin typeface="Arial"/>
              </a:rPr>
              <a:t>Scheme only fits in an A0 sheet</a:t>
            </a: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574640"/>
            <a:ext cx="23329800" cy="12141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escri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gh specialized and normalized data diction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roduct description is local to a 'child' table, but the main expiration ref is represented by the main product table.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Main_Product_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Product_A                Product_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3960" y="8082000"/>
          <a:ext cx="16256160" cy="701640"/>
        </p:xfrm>
        <a:graphic>
          <a:graphicData uri="http://schemas.openxmlformats.org/drawingml/2006/table">
            <a:tbl>
              <a:tblPr/>
              <a:tblGrid>
                <a:gridCol w="4064040"/>
                <a:gridCol w="4064040"/>
                <a:gridCol w="4064040"/>
                <a:gridCol w="406404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Gill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Gill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e_dat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Gill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ires_i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Gill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527040" y="10171080"/>
          <a:ext cx="3879720" cy="809640"/>
        </p:xfrm>
        <a:graphic>
          <a:graphicData uri="http://schemas.openxmlformats.org/drawingml/2006/table">
            <a:tbl>
              <a:tblPr/>
              <a:tblGrid>
                <a:gridCol w="1071720"/>
                <a:gridCol w="2808000"/>
              </a:tblGrid>
              <a:tr h="809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GillSan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GillSan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5711760" y="10171080"/>
          <a:ext cx="3878280" cy="809640"/>
        </p:xfrm>
        <a:graphic>
          <a:graphicData uri="http://schemas.openxmlformats.org/drawingml/2006/table">
            <a:tbl>
              <a:tblPr/>
              <a:tblGrid>
                <a:gridCol w="1071720"/>
                <a:gridCol w="2806560"/>
              </a:tblGrid>
              <a:tr h="809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GillSan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GillSan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64880"/>
            <a:ext cx="23329800" cy="1409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300" spc="-1" strike="noStrike">
                <a:solidFill>
                  <a:srgbClr val="000000"/>
                </a:solidFill>
                <a:latin typeface="Arial"/>
              </a:rPr>
              <a:t>Scheme only fits in an A0 sheet</a:t>
            </a: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74640"/>
            <a:ext cx="23329800" cy="12141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eme specialization creates tables which converges to key/value mode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model the data scheme after modeling the applications ob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ormal form get priority over common sense to avoid de-norm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eme (as in extreme sports) JOINs required and views to hide the complexit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64880"/>
            <a:ext cx="23329800" cy="1409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300" spc="-1" strike="noStrike">
                <a:solidFill>
                  <a:srgbClr val="000000"/>
                </a:solidFill>
                <a:latin typeface="Arial"/>
              </a:rPr>
              <a:t>Your ORM</a:t>
            </a: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574640"/>
            <a:ext cx="23329800" cy="12141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escri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ctations over the use of an ORM over database performance and best practic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ORM issue full queries for each dataset it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formance is not what was expected as the data volume gro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Ms are trying to bridge two things with distinct impedance (domain(set) of each column -&gt; Objects atribut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3600" y="5850000"/>
            <a:ext cx="23329800" cy="1409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300" spc="-1" strike="noStrike">
                <a:solidFill>
                  <a:srgbClr val="000000"/>
                </a:solidFill>
                <a:latin typeface="Arial"/>
              </a:rPr>
              <a:t>Indiscipline</a:t>
            </a:r>
            <a:br>
              <a:rPr sz="6300"/>
            </a:b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using the RDBMS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164880"/>
            <a:ext cx="23329800" cy="1409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3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528560"/>
            <a:ext cx="23329800" cy="12141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ser group meetings with friends to NoSQL:br, QConSP and now OSCon Data 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onsulting cas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rge volumes of data / High concurrent acces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istribution and Disaster recove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ive migr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64880"/>
            <a:ext cx="23329800" cy="1409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300" spc="-1" strike="noStrike">
                <a:solidFill>
                  <a:srgbClr val="000000"/>
                </a:solidFill>
                <a:latin typeface="Arial"/>
              </a:rPr>
              <a:t>Stoned Procedures</a:t>
            </a: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574640"/>
            <a:ext cx="23329800" cy="12141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escri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 the use of stored procedures to hold application logic and event signaling outside of the database context. Triggers and Stored procedures combined to orchestrate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red Procedures and Triggers has the magic property of vanishing of our memories and being impossible to keep versioned. Also, they are hard to test properl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ent handling on different architecture pie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ndled Map/Reduce as stoned procedures for non-RDBM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164880"/>
            <a:ext cx="23329800" cy="1409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300" spc="-1" strike="noStrike">
                <a:solidFill>
                  <a:srgbClr val="000000"/>
                </a:solidFill>
                <a:latin typeface="Arial"/>
              </a:rPr>
              <a:t>Distributed Global Locking</a:t>
            </a: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574640"/>
            <a:ext cx="23329800" cy="12141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escri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 trying to emulate JAVA's synchronize in a distributed manner, initially as a ref cou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&gt; select COALESCE(GET_LOCK('my_lock',0 ),0 )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erdana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RDBMS are not the proper place to locking (or ref counters, which may act as soft lock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Embedded in a magic classes called DistributedSynchronize, ClusterSemaphore, DistributedCluster, SynchronizedSemaphore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64880"/>
            <a:ext cx="23329800" cy="1409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300" spc="-1" strike="noStrike">
                <a:solidFill>
                  <a:srgbClr val="000000"/>
                </a:solidFill>
                <a:latin typeface="Arial"/>
              </a:rPr>
              <a:t>Throttle Control</a:t>
            </a: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574640"/>
            <a:ext cx="23329800" cy="12141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escri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 delegating to the database the control and access tracking to a given resou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equence of statements is issued, varying from a update...select to a transaction block using a stored procedur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&gt; select count(access) from throttle_ctl where ip_addr like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&gt; update .... or begin ... comm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64880"/>
            <a:ext cx="23329800" cy="1409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300" spc="-1" strike="noStrike">
                <a:solidFill>
                  <a:srgbClr val="000000"/>
                </a:solidFill>
                <a:latin typeface="Arial"/>
              </a:rPr>
              <a:t>Throttle Control</a:t>
            </a: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574640"/>
            <a:ext cx="23329800" cy="12141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erdana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For each request would have to check on a transaction block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Usually mixed with a table-based AC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Using memcached (or any other k/v store) to add and set expir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Verdana"/>
              </a:rPr>
              <a:t>if (add 'IPADDR:YYYY:MM:DD:HH', 1) &lt; your_limit: do_stuff(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3600" y="5850000"/>
            <a:ext cx="23329800" cy="1409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300" spc="-1" strike="noStrike">
                <a:solidFill>
                  <a:srgbClr val="000000"/>
                </a:solidFill>
                <a:latin typeface="Arial"/>
              </a:rPr>
              <a:t>Theela Hun Ginjeet</a:t>
            </a:r>
            <a:br>
              <a:rPr sz="6300"/>
            </a:b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word about Ops</a:t>
            </a: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164880"/>
            <a:ext cx="23329800" cy="1409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300" spc="-1" strike="noStrike">
                <a:solidFill>
                  <a:srgbClr val="000000"/>
                </a:solidFill>
                <a:latin typeface="Arial"/>
              </a:rPr>
              <a:t>A word about operations</a:t>
            </a: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5495760" y="2178000"/>
            <a:ext cx="13406760" cy="10009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164880"/>
            <a:ext cx="23329800" cy="1409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300" spc="-1" strike="noStrike">
                <a:solidFill>
                  <a:srgbClr val="000000"/>
                </a:solidFill>
                <a:latin typeface="Arial"/>
              </a:rPr>
              <a:t>The obligatory quote ritual</a:t>
            </a: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574640"/>
            <a:ext cx="23329800" cy="12141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"Without time constraints, any migration is easy, regardless data size"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(Out of production environment, events flow in a different time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64880"/>
            <a:ext cx="23329800" cy="1409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300" spc="-1" strike="noStrike">
                <a:solidFill>
                  <a:srgbClr val="000000"/>
                </a:solidFill>
                <a:latin typeface="Arial"/>
              </a:rPr>
              <a:t>Email Data stored on Databases</a:t>
            </a: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574640"/>
            <a:ext cx="23329800" cy="12141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ail traffic accounting ~4500 msgs/sec in, ~2000 msgs 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B SPAM/NOT SPAM tokenized data per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300 GB logfile data/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0 Billion DNS queries per day / 3.1 Gb/s traff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1k req/sec tcptable queries (message routin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0.8 PB of data migrated over mixed quality network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 logs on MySQL / High concurrent data on PostgreSQ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64880"/>
            <a:ext cx="23329800" cy="1409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300" spc="-1" strike="noStrike">
                <a:solidFill>
                  <a:srgbClr val="000000"/>
                </a:solidFill>
                <a:latin typeface="Arial"/>
              </a:rPr>
              <a:t>Fail seven times, stand up eight</a:t>
            </a: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8375760" y="1601640"/>
            <a:ext cx="8324640" cy="107823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3600" y="5850000"/>
            <a:ext cx="23329800" cy="1409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300" spc="-1" strike="noStrike">
                <a:solidFill>
                  <a:srgbClr val="000000"/>
                </a:solidFill>
                <a:latin typeface="Arial"/>
              </a:rPr>
              <a:t>The Sheltering Sky</a:t>
            </a:r>
            <a:br>
              <a:rPr sz="6300"/>
            </a:b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rchitecture and Migration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164880"/>
            <a:ext cx="23329800" cy="1409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300" spc="-1" strike="noStrike">
                <a:solidFill>
                  <a:srgbClr val="000000"/>
                </a:solidFill>
                <a:latin typeface="Arial"/>
              </a:rPr>
              <a:t>Required Listening</a:t>
            </a: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255400" y="1574640"/>
            <a:ext cx="12531600" cy="12141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124d"/>
                </a:solidFill>
                <a:latin typeface="Arial"/>
              </a:rPr>
              <a:t>Trackl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00"/>
              </a:spcBef>
              <a:buClr>
                <a:srgbClr val="b40e2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Elephant Tal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00"/>
              </a:spcBef>
              <a:buClr>
                <a:srgbClr val="b40e2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Frame by Fra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00"/>
              </a:spcBef>
              <a:buClr>
                <a:srgbClr val="b40e2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Matte Kudasai (please wai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00"/>
              </a:spcBef>
              <a:buClr>
                <a:srgbClr val="b40e2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Indiscip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00"/>
              </a:spcBef>
              <a:buClr>
                <a:srgbClr val="b40e2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Thela 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n Ginjeet (heat in the jungl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00"/>
              </a:spcBef>
              <a:buClr>
                <a:srgbClr val="b40e2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The Sheltering S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00"/>
              </a:spcBef>
              <a:buClr>
                <a:srgbClr val="b40e2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00"/>
              </a:spcBef>
              <a:buClr>
                <a:srgbClr val="b40e2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Matte Kudasai (Bonus Track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 alternate mix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527040" y="1962000"/>
            <a:ext cx="10009080" cy="96742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64880"/>
            <a:ext cx="23329800" cy="1409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3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574640"/>
            <a:ext cx="23329800" cy="12141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k if the data you use aren't already de-normalized somewhere (cache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e you dependent on cache ? Does your application fails when there is no warm cache ? Does it just slows down ? MTTR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64880"/>
            <a:ext cx="23329800" cy="1409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300" spc="-1" strike="noStrike">
                <a:solidFill>
                  <a:srgbClr val="000000"/>
                </a:solidFill>
                <a:latin typeface="Arial"/>
              </a:rPr>
              <a:t>Migration</a:t>
            </a: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574640"/>
            <a:ext cx="23329800" cy="12141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put and get data back from the databas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QL queries, CSV, binary file, HTTP, Protocol Buff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change the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chem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? Is there a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chem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ugh calculation to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trea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1 Terabyte over a 1 Gigabit/sec link, assuming you have a dedicated network segment for that and constant throughput of 70% (~ 716.8 Mbps/sec): 3h15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 considering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ocol overh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urrent traffic (live migration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x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64880"/>
            <a:ext cx="23329800" cy="1409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3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574640"/>
            <a:ext cx="23329800" cy="12141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st of the anti-patterns signals that there are architectural issues instead of only database issues.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l it NoSQL, non relational, or any other name, but assemble a toolbox to deal with different data typ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3600" y="5850000"/>
            <a:ext cx="23329800" cy="1409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300" spc="-1" strike="noStrike">
                <a:solidFill>
                  <a:srgbClr val="000000"/>
                </a:solidFill>
                <a:latin typeface="Arial"/>
              </a:rPr>
              <a:t>Discipline</a:t>
            </a:r>
            <a:br>
              <a:rPr sz="6300"/>
            </a:b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(Data Organization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64880"/>
            <a:ext cx="23329800" cy="1409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300" spc="-1" strike="noStrike">
                <a:solidFill>
                  <a:srgbClr val="000000"/>
                </a:solidFill>
                <a:latin typeface="Arial"/>
              </a:rPr>
              <a:t>The obligatory quote ritual</a:t>
            </a: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574640"/>
            <a:ext cx="23329800" cy="12141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"Without operational requirements, it's a personal choice about data organization"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64880"/>
            <a:ext cx="23329800" cy="1409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300" spc="-1" strike="noStrike">
                <a:solidFill>
                  <a:srgbClr val="000000"/>
                </a:solidFill>
                <a:latin typeface="Arial"/>
              </a:rPr>
              <a:t>Data Organization - Storing</a:t>
            </a: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574640"/>
            <a:ext cx="10366200" cy="12141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74e13"/>
                </a:solidFill>
                <a:latin typeface="Arial"/>
              </a:rPr>
              <a:t>MongoD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761d"/>
                </a:solidFill>
                <a:latin typeface="Arial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761d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38761d"/>
                </a:solidFill>
                <a:latin typeface="Arial"/>
              </a:rPr>
              <a:t>'id': 1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761d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38761d"/>
                </a:solidFill>
                <a:latin typeface="Arial"/>
              </a:rPr>
              <a:t>'title' : 'Diving into Python'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761d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38761d"/>
                </a:solidFill>
                <a:latin typeface="Arial"/>
              </a:rPr>
              <a:t>'author': 'Mark Pilgrim'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761d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38761d"/>
                </a:solidFill>
                <a:latin typeface="Arial"/>
              </a:rPr>
              <a:t>'tags': ['python','programming', 'computing'] 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761d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761d"/>
                </a:solidFill>
                <a:latin typeface="Arial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761d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38761d"/>
                </a:solidFill>
                <a:latin typeface="Arial"/>
              </a:rPr>
              <a:t>'id':2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761d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38761d"/>
                </a:solidFill>
                <a:latin typeface="Arial"/>
              </a:rPr>
              <a:t>'title' : 'Programing Erlang'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761d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38761d"/>
                </a:solidFill>
                <a:latin typeface="Arial"/>
              </a:rPr>
              <a:t>'author': 'Joe Armstrong'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761d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38761d"/>
                </a:solidFill>
                <a:latin typeface="Arial"/>
              </a:rPr>
              <a:t>'tags': ['erlang','programming', 'computing', 'distributedcomputing', 'FP'] 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761d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761d"/>
                </a:solidFill>
                <a:latin typeface="Arial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761d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38761d"/>
                </a:solidFill>
                <a:latin typeface="Arial"/>
              </a:rPr>
              <a:t>'id':3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761d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38761d"/>
                </a:solidFill>
                <a:latin typeface="Arial"/>
              </a:rPr>
              <a:t>'title' : 'Programing in Haskell'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761d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38761d"/>
                </a:solidFill>
                <a:latin typeface="Arial"/>
              </a:rPr>
              <a:t>'author': 'Graham Hutton'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761d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38761d"/>
                </a:solidFill>
                <a:latin typeface="Arial"/>
              </a:rPr>
              <a:t>'tags': ['haskell','programming', 'computing', 'FP'] 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761d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12912840" y="1550880"/>
            <a:ext cx="10726560" cy="12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34f5c"/>
                </a:solidFill>
                <a:latin typeface="Arial"/>
              </a:rPr>
              <a:t>Redis</a:t>
            </a:r>
            <a:endParaRPr b="0" lang="en-US" sz="4000" spc="-1" strike="noStrike">
              <a:solidFill>
                <a:srgbClr val="000000"/>
              </a:solidFill>
              <a:latin typeface="Gill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4f5c"/>
                </a:solidFill>
                <a:latin typeface="Arial"/>
              </a:rPr>
              <a:t>SET book:1 {'title' : 'Diving into Python',</a:t>
            </a:r>
            <a:endParaRPr b="0" lang="en-US" sz="3200" spc="-1" strike="noStrike">
              <a:solidFill>
                <a:srgbClr val="000000"/>
              </a:solidFill>
              <a:latin typeface="Gill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4f5c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134f5c"/>
                </a:solidFill>
                <a:latin typeface="Arial"/>
              </a:rPr>
              <a:t>'author': 'Mark Pilgrim'}</a:t>
            </a:r>
            <a:endParaRPr b="0" lang="en-US" sz="3200" spc="-1" strike="noStrike">
              <a:solidFill>
                <a:srgbClr val="000000"/>
              </a:solidFill>
              <a:latin typeface="Gill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4f5c"/>
                </a:solidFill>
                <a:latin typeface="Arial"/>
              </a:rPr>
              <a:t>SET book:2 { 'title' : 'Programing Erlang',</a:t>
            </a:r>
            <a:endParaRPr b="0" lang="en-US" sz="3200" spc="-1" strike="noStrike">
              <a:solidFill>
                <a:srgbClr val="000000"/>
              </a:solidFill>
              <a:latin typeface="Gill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4f5c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134f5c"/>
                </a:solidFill>
                <a:latin typeface="Arial"/>
              </a:rPr>
              <a:t>'author': 'Joe Armstrong'}</a:t>
            </a:r>
            <a:endParaRPr b="0" lang="en-US" sz="3200" spc="-1" strike="noStrike">
              <a:solidFill>
                <a:srgbClr val="000000"/>
              </a:solidFill>
              <a:latin typeface="Gill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4f5c"/>
                </a:solidFill>
                <a:latin typeface="Arial"/>
              </a:rPr>
              <a:t>SET book:3 { 'title' : 'Programing in Haskell',</a:t>
            </a:r>
            <a:endParaRPr b="0" lang="en-US" sz="3200" spc="-1" strike="noStrike">
              <a:solidFill>
                <a:srgbClr val="000000"/>
              </a:solidFill>
              <a:latin typeface="Gill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4f5c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134f5c"/>
                </a:solidFill>
                <a:latin typeface="Arial"/>
              </a:rPr>
              <a:t>'author': 'Graham Hutton'}</a:t>
            </a:r>
            <a:endParaRPr b="0" lang="en-US" sz="3200" spc="-1" strike="noStrike">
              <a:solidFill>
                <a:srgbClr val="000000"/>
              </a:solidFill>
              <a:latin typeface="Gill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4f5c"/>
                </a:solidFill>
                <a:latin typeface="Arial"/>
              </a:rPr>
              <a:t>SADD tag:python 1</a:t>
            </a:r>
            <a:endParaRPr b="0" lang="en-US" sz="3200" spc="-1" strike="noStrike">
              <a:solidFill>
                <a:srgbClr val="000000"/>
              </a:solidFill>
              <a:latin typeface="Gill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4f5c"/>
                </a:solidFill>
                <a:latin typeface="Arial"/>
              </a:rPr>
              <a:t>SADD tag:erlang 2</a:t>
            </a:r>
            <a:endParaRPr b="0" lang="en-US" sz="3200" spc="-1" strike="noStrike">
              <a:solidFill>
                <a:srgbClr val="000000"/>
              </a:solidFill>
              <a:latin typeface="Gill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4f5c"/>
                </a:solidFill>
                <a:latin typeface="Arial"/>
              </a:rPr>
              <a:t>SADD tag:haskell 3</a:t>
            </a:r>
            <a:endParaRPr b="0" lang="en-US" sz="3200" spc="-1" strike="noStrike">
              <a:solidFill>
                <a:srgbClr val="000000"/>
              </a:solidFill>
              <a:latin typeface="Gill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4f5c"/>
                </a:solidFill>
                <a:latin typeface="Arial"/>
              </a:rPr>
              <a:t>SADD tag:programming 1 2 3</a:t>
            </a:r>
            <a:endParaRPr b="0" lang="en-US" sz="3200" spc="-1" strike="noStrike">
              <a:solidFill>
                <a:srgbClr val="000000"/>
              </a:solidFill>
              <a:latin typeface="Gill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4f5c"/>
                </a:solidFill>
                <a:latin typeface="Arial"/>
              </a:rPr>
              <a:t>SADD tag computing 1 2 3</a:t>
            </a:r>
            <a:endParaRPr b="0" lang="en-US" sz="3200" spc="-1" strike="noStrike">
              <a:solidFill>
                <a:srgbClr val="000000"/>
              </a:solidFill>
              <a:latin typeface="Gill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4f5c"/>
                </a:solidFill>
                <a:latin typeface="Arial"/>
              </a:rPr>
              <a:t>SADD tag:distributedcomputing 2</a:t>
            </a:r>
            <a:endParaRPr b="0" lang="en-US" sz="3200" spc="-1" strike="noStrike">
              <a:solidFill>
                <a:srgbClr val="000000"/>
              </a:solidFill>
              <a:latin typeface="Gill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4f5c"/>
                </a:solidFill>
                <a:latin typeface="Arial"/>
              </a:rPr>
              <a:t>SADD tag:FP 2 3</a:t>
            </a:r>
            <a:endParaRPr b="0" lang="en-US" sz="32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  <p:transition spd="med">
    <p:dissolv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64880"/>
            <a:ext cx="23329800" cy="1409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300" spc="-1" strike="noStrike">
                <a:solidFill>
                  <a:srgbClr val="000000"/>
                </a:solidFill>
                <a:latin typeface="Arial"/>
              </a:rPr>
              <a:t>Data Organization - Querying</a:t>
            </a: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574640"/>
            <a:ext cx="10366200" cy="12141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74e13"/>
                </a:solidFill>
                <a:latin typeface="Arial"/>
              </a:rPr>
              <a:t>MongoD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arch tags for erlang or haskell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8761d"/>
                </a:solidFill>
                <a:latin typeface="Arial"/>
              </a:rPr>
              <a:t>db.books.find({"tags"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8761d"/>
                </a:solidFill>
                <a:latin typeface="Arial"/>
              </a:rPr>
              <a:t>     </a:t>
            </a:r>
            <a:r>
              <a:rPr b="0" lang="en-US" sz="3600" spc="-1" strike="noStrike">
                <a:solidFill>
                  <a:srgbClr val="38761d"/>
                </a:solidFill>
                <a:latin typeface="Arial"/>
              </a:rPr>
              <a:t>{ $in: ['erlang', 'haskell']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8761d"/>
                </a:solidFill>
                <a:latin typeface="Arial"/>
              </a:rPr>
              <a:t>   </a:t>
            </a:r>
            <a:r>
              <a:rPr b="0" lang="en-US" sz="3600" spc="-1" strike="noStrike">
                <a:solidFill>
                  <a:srgbClr val="38761d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8761d"/>
                </a:solidFill>
                <a:latin typeface="Arial"/>
              </a:rPr>
              <a:t>}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arch tags for erlang AND haskell (no result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8761d"/>
                </a:solidFill>
                <a:latin typeface="Arial"/>
              </a:rPr>
              <a:t>db.books.find({"tags"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8761d"/>
                </a:solidFill>
                <a:latin typeface="Arial"/>
              </a:rPr>
              <a:t>     </a:t>
            </a:r>
            <a:r>
              <a:rPr b="0" lang="en-US" sz="3600" spc="-1" strike="noStrike">
                <a:solidFill>
                  <a:srgbClr val="38761d"/>
                </a:solidFill>
                <a:latin typeface="Arial"/>
              </a:rPr>
              <a:t>{ $all: ['erlang', 'haskell']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8761d"/>
                </a:solidFill>
                <a:latin typeface="Arial"/>
              </a:rPr>
              <a:t>   </a:t>
            </a:r>
            <a:r>
              <a:rPr b="0" lang="en-US" sz="3600" spc="-1" strike="noStrike">
                <a:solidFill>
                  <a:srgbClr val="38761d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8761d"/>
                </a:solidFill>
                <a:latin typeface="Arial"/>
              </a:rPr>
              <a:t>}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8761d"/>
                </a:solidFill>
                <a:latin typeface="Arial"/>
              </a:rPr>
              <a:t>This search yields 3 resu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8761d"/>
                </a:solidFill>
                <a:latin typeface="Arial"/>
              </a:rPr>
              <a:t>db.books.find({"tags"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8761d"/>
                </a:solidFill>
                <a:latin typeface="Arial"/>
              </a:rPr>
              <a:t>     </a:t>
            </a:r>
            <a:r>
              <a:rPr b="0" lang="en-US" sz="3600" spc="-1" strike="noStrike">
                <a:solidFill>
                  <a:srgbClr val="38761d"/>
                </a:solidFill>
                <a:latin typeface="Arial"/>
              </a:rPr>
              <a:t>{ $all: ['programming', 'computing']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8761d"/>
                </a:solidFill>
                <a:latin typeface="Arial"/>
              </a:rPr>
              <a:t>   </a:t>
            </a:r>
            <a:r>
              <a:rPr b="0" lang="en-US" sz="3600" spc="-1" strike="noStrike">
                <a:solidFill>
                  <a:srgbClr val="38761d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8761d"/>
                </a:solidFill>
                <a:latin typeface="Arial"/>
              </a:rPr>
              <a:t>}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12912840" y="1550880"/>
            <a:ext cx="10726560" cy="12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34f5c"/>
                </a:solidFill>
                <a:latin typeface="Arial"/>
              </a:rPr>
              <a:t>Redis</a:t>
            </a:r>
            <a:endParaRPr b="0" lang="en-US" sz="4000" spc="-1" strike="noStrike">
              <a:solidFill>
                <a:srgbClr val="000000"/>
              </a:solidFill>
              <a:latin typeface="Gill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arch tags for erlang and haskell:</a:t>
            </a: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34f5c"/>
                </a:solidFill>
                <a:latin typeface="Arial"/>
              </a:rPr>
              <a:t>SINTER 'tag:erlang' 'tag:haskell'</a:t>
            </a: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34f5c"/>
                </a:solidFill>
                <a:latin typeface="Arial"/>
              </a:rPr>
              <a:t>0 results</a:t>
            </a: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arch for programming and computing tags:</a:t>
            </a: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34f5c"/>
                </a:solidFill>
                <a:latin typeface="Arial"/>
              </a:rPr>
              <a:t>SINTER 'tag:programming' 'tag:computing'</a:t>
            </a: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34f5c"/>
                </a:solidFill>
                <a:latin typeface="Arial"/>
              </a:rPr>
              <a:t>3 results: 1, 2, 3</a:t>
            </a: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34f5c"/>
                </a:solidFill>
                <a:latin typeface="Arial"/>
              </a:rPr>
              <a:t>SUNION 'tag:erlang' 'tag:haskell'</a:t>
            </a: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34f5c"/>
                </a:solidFill>
                <a:latin typeface="Arial"/>
              </a:rPr>
              <a:t>2 results: 2 and 3</a:t>
            </a: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34f5c"/>
                </a:solidFill>
                <a:latin typeface="Arial"/>
              </a:rPr>
              <a:t>SDIFF 'tag:programming' 'tag:haskell'</a:t>
            </a: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34f5c"/>
                </a:solidFill>
                <a:latin typeface="Arial"/>
              </a:rPr>
              <a:t>2 results: 1 and 2 (haskell is excluded)</a:t>
            </a:r>
            <a:endParaRPr b="0" lang="en-US" sz="3600" spc="-1" strike="noStrike">
              <a:solidFill>
                <a:srgbClr val="000000"/>
              </a:solidFill>
              <a:latin typeface="Gill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  <p:transition spd="med">
    <p:dissolv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64880"/>
            <a:ext cx="23329800" cy="1409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300" spc="-1" strike="noStrike">
                <a:solidFill>
                  <a:srgbClr val="000000"/>
                </a:solidFill>
                <a:latin typeface="Arial"/>
              </a:rPr>
              <a:t>Obligatory book ref</a:t>
            </a: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8591400" y="1817640"/>
            <a:ext cx="7066080" cy="95774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64880"/>
            <a:ext cx="23329800" cy="1409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300" spc="-1" strike="noStrike">
                <a:solidFill>
                  <a:srgbClr val="000000"/>
                </a:solidFill>
                <a:latin typeface="Arial"/>
              </a:rPr>
              <a:t>Obligatory book ref</a:t>
            </a: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9096480" y="1817640"/>
            <a:ext cx="6191280" cy="92869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26680" y="5418000"/>
            <a:ext cx="23329800" cy="1409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300" spc="-1" strike="noStrike">
                <a:solidFill>
                  <a:srgbClr val="000000"/>
                </a:solidFill>
                <a:latin typeface="Arial"/>
              </a:rPr>
              <a:t>Questions ?</a:t>
            </a: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64880"/>
            <a:ext cx="23329800" cy="1409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3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574640"/>
            <a:ext cx="23329800" cy="12141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b40e2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Elephant Talk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- Why Anti Patterns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b40e2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Frame by Frame</a:t>
            </a:r>
            <a:r>
              <a:rPr b="0" lang="en-US" sz="4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- DML/DDL Anti Patter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b40e2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Matte Kudasai (please wait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- Architectural Anti Patter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b40e2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Indisciplin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- Abusing the RDBM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b40e2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Thela Hun Ginjeet (Heat in the jungle)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- A word about Op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b40e2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The Sheltering Sky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- Architecture and Migr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b40e2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Discipline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- The discussion over data organization + Question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26680" y="5418000"/>
            <a:ext cx="23329800" cy="1409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300" spc="-1" strike="noStrike">
                <a:solidFill>
                  <a:srgbClr val="000000"/>
                </a:solidFill>
                <a:latin typeface="Arial"/>
              </a:rPr>
              <a:t>Thanks !</a:t>
            </a: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3600" y="5850000"/>
            <a:ext cx="23329800" cy="1409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300" spc="-1" strike="noStrike">
                <a:solidFill>
                  <a:srgbClr val="000000"/>
                </a:solidFill>
                <a:latin typeface="Arial"/>
              </a:rPr>
              <a:t>Elephant Talk</a:t>
            </a:r>
            <a:br>
              <a:rPr sz="6300"/>
            </a:b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Anti Patterns ?)</a:t>
            </a:r>
            <a:br>
              <a:rPr sz="66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64880"/>
            <a:ext cx="23329800" cy="1409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300" spc="-1" strike="noStrike">
                <a:solidFill>
                  <a:srgbClr val="000000"/>
                </a:solidFill>
                <a:latin typeface="Arial"/>
              </a:rPr>
              <a:t>Why A</a:t>
            </a:r>
            <a:r>
              <a:rPr b="1" lang="en-US" sz="63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pt-BR" sz="6300" spc="-1" strike="noStrike">
                <a:solidFill>
                  <a:srgbClr val="000000"/>
                </a:solidFill>
                <a:latin typeface="Arial"/>
              </a:rPr>
              <a:t>ti Patterns</a:t>
            </a: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574640"/>
            <a:ext cx="23329800" cy="12141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chitectural Anti Patterns for Data Handling or 'Please don't do it with [MySQL|PGSQL|Oracle|SQLServer]' or  'Things that you shouldn't use a RDBMS for'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164880"/>
            <a:ext cx="23329800" cy="1409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300" spc="-1" strike="noStrike">
                <a:solidFill>
                  <a:srgbClr val="000000"/>
                </a:solidFill>
                <a:latin typeface="Arial"/>
              </a:rPr>
              <a:t>Still, why Anti Patterns ?</a:t>
            </a: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574640"/>
            <a:ext cx="23329800" cy="12141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b40e2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stly result of innocent assum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b40e2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 catch them at the server crashing or customer compla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b40e2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SQL databases are not safe from it. Mistaken assumptions are like water, finds a way around everythin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64880"/>
            <a:ext cx="23329800" cy="1409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300" spc="-1" strike="noStrike">
                <a:solidFill>
                  <a:srgbClr val="000000"/>
                </a:solidFill>
                <a:latin typeface="Arial"/>
              </a:rPr>
              <a:t>Quick Question</a:t>
            </a: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574640"/>
            <a:ext cx="23329800" cy="12141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main MySQL tuning technique used in panic situations ?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G M</cp:lastModifiedBy>
  <dcterms:modified xsi:type="dcterms:W3CDTF">2011-07-23T19:27:56Z</dcterms:modified>
  <cp:revision>52</cp:revision>
  <dc:subject/>
  <dc:title>PowerPoint Presentation</dc:title>
</cp:coreProperties>
</file>